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07B-1653-4EF0-A510-7A437C6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3CB-1C8A-4713-A809-FA347062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C4C-266B-4E41-B7AE-0C93F34A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19C-02EB-452C-BE0C-DCEE54FA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E77-4DF8-4971-9820-9AC4CE64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5C80-1853-4149-BD39-3043B1A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911C-A7E9-497D-98B9-23D422F7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D250-571F-4470-BD99-FE40B63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EDC4-AB4D-4882-AE3A-774AF03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47E6-2EC9-45FE-94E6-3715380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DF9-5060-4950-B1CA-F4A2645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A7A-FE7F-470D-A5C0-805723C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A59-032B-428E-A437-A136723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904-10B0-48D5-B581-B0EF369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EA9D-18BA-46AA-8021-4BAA185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695E-296D-4983-99EB-43EA5C0F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007-47F1-45EF-A893-F70EC8D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CB8E7-9B77-49FB-BAEA-915B6488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DC20A-670A-448C-96FB-13F926A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5D1EE-457D-4350-9506-BF1EF50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93109-A593-462E-86F4-3CF1E2C2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B1792-D523-45DF-8A55-72B0BDA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F5D-2ACE-4963-829D-D24D307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CDDAA-5EDF-4665-9A77-8A7641C3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8B99-BE62-48B5-B1C8-561D613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CE0E4-80F6-43BF-B08D-9ACD155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2CFFF-6DE0-43BB-9C5B-B1AA50D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C6AAF-A49E-4C5D-85C3-54516B6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6C935-D06E-4366-85E2-13510AF7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A89AC-2CBF-4629-BF0B-9AD0C710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1559-C2C4-453F-BC99-AF4A10A7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4FEB-F1BC-4BE6-9072-4D5EC3D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3F41-6E4B-42A9-B198-0851E7F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A5A-3F29-4B7D-A957-3BEED40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E836-B19C-4A86-885D-AC7897B3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1878-87B9-42E6-97AB-9FBE607C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28D7-AB09-45AD-B2ED-77AC65C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B16A-D94B-4FF7-AB7D-5288F77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2908-85D8-4600-8281-C381553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79A3-5F22-40B6-AF47-4B66468B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B360A-EE86-48E5-B980-F943CE3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7C65-45A9-48D6-840E-0670256B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790F-F608-461C-9F4D-F3DC2411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49E-9C26-45C0-9F7A-8B96D18D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5D6-807C-4A59-BFE4-76EDD89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42E-56EF-419C-8E84-325598C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4AD-E5BB-4927-9D54-347D982E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15C-78A4-4652-9BE6-D1C0DD8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86E1-1739-4FE3-8AB2-45A2CB6546B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89A4-5749-4095-B803-BDD7883DA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265-CF14-42A5-B6E5-E69C5C9978F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3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3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50F-CC55-4951-B170-28435E4157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SAFETY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AIRBAGS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N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7929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ONSTRUCTION OF AIR BAG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are assemblies consisting of the airbag (made of Nylon), inflator modules and sensor housing, electrical connectors (Clock spring), airbag retainer and the cove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or assem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module activates airbag assembly- electric current is sent to the detonator-ignition of sodium azide pallets-evolves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 bags are designed to inflate in frontal impacts in which the car strikes about 16 km/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collision senors sents an electric current to ignito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 current heats the filament which ignates the capsule which in turn ignites the gas generating pall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gas expands quickly and inflation of air bags there by takesplace,which break through a plastic cover in the  steering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aken for all these things about .1se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IVERS SIDE AIRBA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Picture 4" descr="airbag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2590920"/>
            <a:ext cx="647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47176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8" name="Picture 2" descr="airbag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66680" y="1981080"/>
            <a:ext cx="4200480" cy="26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30002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Picture 4" descr="airbag7"/>
          <p:cNvPicPr/>
          <p:nvPr/>
        </p:nvPicPr>
        <p:blipFill>
          <a:blip r:embed="rId2">
            <a:grayscl/>
          </a:blip>
          <a:stretch/>
        </p:blipFill>
        <p:spPr>
          <a:xfrm>
            <a:off x="5638680" y="1981080"/>
            <a:ext cx="3143520" cy="2571840"/>
          </a:xfrm>
          <a:prstGeom prst="rect">
            <a:avLst/>
          </a:prstGeom>
          <a:ln w="0">
            <a:noFill/>
          </a:ln>
        </p:spPr>
      </p:pic>
      <p:pic>
        <p:nvPicPr>
          <p:cNvPr id="211" name="WordArt 6" descr=""/>
          <p:cNvPicPr/>
          <p:nvPr/>
        </p:nvPicPr>
        <p:blipFill>
          <a:blip r:embed="rId3"/>
          <a:stretch/>
        </p:blipFill>
        <p:spPr>
          <a:xfrm>
            <a:off x="5857920" y="4559400"/>
            <a:ext cx="2468520" cy="3412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7" descr=""/>
          <p:cNvPicPr/>
          <p:nvPr/>
        </p:nvPicPr>
        <p:blipFill>
          <a:blip r:embed="rId4"/>
          <a:stretch/>
        </p:blipFill>
        <p:spPr>
          <a:xfrm>
            <a:off x="1968480" y="4559400"/>
            <a:ext cx="22068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rn types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urtain airba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by mercedes and vol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ate infront of windows to provide passengers better head and neck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efficient at tipping and side imp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HIC by 8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610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Head throax bag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ford and renaul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igh protection to he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veloped by BMW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lds first airbag for hea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mart system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s weight sens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type occupant in seat.ie.child or adul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Infrared occupan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ct the distance of passenger from airba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Capacitive reflective occupa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sens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distance passenger from dash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riminate between human occupant and inanimat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pdate sens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loys seatbelt pretensioners faster to get benefit of airb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entralised electronic control uni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sensor technology through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 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  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2   BASIS OF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3   DEVELOPMENTS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4   CONSTRUCTION OF AIR BAG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5   WORK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6   MODERN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7   FUTU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8   AIR BAG DEPLOY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9   AIR BAG CHE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0 DISARMING AIR BA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Tahoma"/>
              </a:rPr>
              <a:t>11 CON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 bag de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bag inf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icits contact with airb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ing to rest in seat and deflation of airba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se take in 30 milli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rbags che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turn key look at the dash to find airbag light for 7-10 sec.&amp;then go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 occur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light does not come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if light does not go off after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if light comes during dri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arming air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batt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 30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e airbag f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sound insulat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nnect the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the bag is disar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he bag below 130degree cels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airbag"/>
          <p:cNvPicPr/>
          <p:nvPr/>
        </p:nvPicPr>
        <p:blipFill>
          <a:blip r:embed="rId1"/>
          <a:stretch/>
        </p:blipFill>
        <p:spPr>
          <a:xfrm>
            <a:off x="175248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airbag1"/>
          <p:cNvPicPr/>
          <p:nvPr/>
        </p:nvPicPr>
        <p:blipFill>
          <a:blip r:embed="rId2"/>
          <a:stretch/>
        </p:blipFill>
        <p:spPr>
          <a:xfrm>
            <a:off x="4191120" y="266688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airbag2"/>
          <p:cNvPicPr/>
          <p:nvPr/>
        </p:nvPicPr>
        <p:blipFill>
          <a:blip r:embed="rId3"/>
          <a:stretch/>
        </p:blipFill>
        <p:spPr>
          <a:xfrm>
            <a:off x="6553080" y="25146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airbag3"/>
          <p:cNvPicPr/>
          <p:nvPr/>
        </p:nvPicPr>
        <p:blipFill>
          <a:blip r:embed="rId4"/>
          <a:stretch/>
        </p:blipFill>
        <p:spPr>
          <a:xfrm>
            <a:off x="1676520" y="4343400"/>
            <a:ext cx="180972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irbag4"/>
          <p:cNvPicPr/>
          <p:nvPr/>
        </p:nvPicPr>
        <p:blipFill>
          <a:blip r:embed="rId5"/>
          <a:stretch/>
        </p:blipFill>
        <p:spPr>
          <a:xfrm>
            <a:off x="4191120" y="44197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rear_restraint"/>
          <p:cNvPicPr/>
          <p:nvPr/>
        </p:nvPicPr>
        <p:blipFill>
          <a:blip r:embed="rId1"/>
          <a:stretch/>
        </p:blipFill>
        <p:spPr>
          <a:xfrm>
            <a:off x="990720" y="3429000"/>
            <a:ext cx="75438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bags are of greater importance in todays vehicles siince safety of human life is of prior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ar safe riding  and for saving  the precious life the safety bags must be implement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hope every automobile manufacturer implements the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WordArt 2" descr=""/>
          <p:cNvPicPr/>
          <p:nvPr/>
        </p:nvPicPr>
        <p:blipFill>
          <a:blip r:embed="rId1"/>
          <a:stretch/>
        </p:blipFill>
        <p:spPr>
          <a:xfrm>
            <a:off x="-1322280" y="2498760"/>
            <a:ext cx="114840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il recently seat belts provided the sole form of passive restraint in c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ly talks arose about their safe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have been under development for many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s reveal that airbags reduce the risk of casualty in a DFC by 3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bags are the subject of serious governments industry research and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ton’s second law of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objects aren’t restrained they will continue moving at the speed of the moving car even if the car is stopped by a coll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airbags need to do is to slow down passengers spe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WordArt 5" descr=""/>
          <p:cNvPicPr/>
          <p:nvPr/>
        </p:nvPicPr>
        <p:blipFill>
          <a:blip r:embed="rId1"/>
          <a:stretch/>
        </p:blipFill>
        <p:spPr>
          <a:xfrm>
            <a:off x="444600" y="596880"/>
            <a:ext cx="7291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WAR-2 :saw the first patent on an inflatable crash landing device for airpla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0:first commercial airbags appeared in automob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 since 1988 it became a bin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s to adapt the airbag was stranded due to prohibitive prices and technical hurd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ARTS OF AN AIRBA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lation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BA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ade up of a thin nylon fabric, which is folded into the steering wheel or dashboard or the seat or d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powdery substance released ( regular cornstarch or talcum powder) is used to keep the bags lubricated while they’re in sto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EN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9296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evice that tells the bag to infla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works with the control module to                      discriminate between crash and non- crash events.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FLATION SYSTEM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large amts. of NITROGEN 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t Blasts of the nitrogen inflate the air bag from its storage site up to 322Kmp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8:32:07Z</dcterms:created>
  <dc:creator>Mechanical Engineering Project</dc:creator>
  <dc:description/>
  <dc:language>en-US</dc:language>
  <cp:lastModifiedBy>Brigade</cp:lastModifiedBy>
  <dcterms:modified xsi:type="dcterms:W3CDTF">2011-08-09T11:09:22Z</dcterms:modified>
  <cp:revision>0</cp:revision>
  <dc:subject/>
  <dc:title>Mechanical Engineering Project</dc:title>
</cp:coreProperties>
</file>